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B28B-15D0-4438-B59B-1E7B6E0A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6994800" cy="3889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5096520"/>
            <a:ext cx="6994800" cy="3889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2A01-B2C8-44B1-9335-2C03BEEF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3413160" cy="3889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65040" y="837720"/>
            <a:ext cx="3413160" cy="3889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5096520"/>
            <a:ext cx="3413160" cy="3889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965040" y="5096520"/>
            <a:ext cx="3413160" cy="3889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02F-8226-4425-A5C6-1D037E96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2252160" cy="3889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746080" y="837720"/>
            <a:ext cx="2252160" cy="3889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11280" y="837720"/>
            <a:ext cx="2252160" cy="3889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5096520"/>
            <a:ext cx="2252160" cy="3889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746080" y="5096520"/>
            <a:ext cx="2252160" cy="3889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111280" y="5096520"/>
            <a:ext cx="2252160" cy="3889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1422-AC65-4A6F-B903-23AB4D61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6994800" cy="81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52F-9A0E-4670-BD10-CA4CFBFE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6994800" cy="8153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3898-379E-4CE0-B3E6-C89836E2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3413160" cy="8153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65040" y="837720"/>
            <a:ext cx="3413160" cy="8153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1898-FF63-487C-9E50-61CBBF76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09E-2CD8-4C91-9F97-69A64991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AEFC-0E17-41E1-B6F8-AC57B09C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3413160" cy="3889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65040" y="837720"/>
            <a:ext cx="3413160" cy="8153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5096520"/>
            <a:ext cx="3413160" cy="3889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EEA1-5EE2-44CE-8546-3C558ECC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3413160" cy="8153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65040" y="837720"/>
            <a:ext cx="3413160" cy="3889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65040" y="5096520"/>
            <a:ext cx="3413160" cy="3889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198A-7D7F-402D-AD58-FD3D5D09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3413160" cy="3889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65040" y="837720"/>
            <a:ext cx="3413160" cy="3889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5096520"/>
            <a:ext cx="6994800" cy="3889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CFC-8913-4069-B05C-63303B84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837720"/>
            <a:ext cx="6994800" cy="8153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31840" indent="-231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96960" indent="-2174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60640" indent="-231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2060640" indent="-231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2060640" indent="-231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8880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236680" y="8991360"/>
            <a:ext cx="3299040" cy="86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ntact 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KDesigns Bou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ustomerService@AKDesignsBoutique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akdesignsboutiqu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5562720" y="914400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33500143-DCD6-4BE6-85A5-197BACB2D45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267080" y="304920"/>
            <a:ext cx="3124440" cy="5014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609840" cy="608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04560" y="914040"/>
            <a:ext cx="7124760" cy="609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231840" indent="-231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#566 Cute Tricycl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9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mples below are of how the design looks stitch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838080"/>
            <a:ext cx="7124760" cy="81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marL="231840" indent="-231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73392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60020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marL="231840" indent="-2318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Verdana"/>
              </a:rPr>
              <a:t>Included in this set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3x4 – 3.1”h – 3.9”w, 13,681 stitches, 6 col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5x6 – 4.9”h – 6.0”w, 25,800 stitches, 6 col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7x8 – 6.6”h – 8.2”w, 43,502 stitches, 6 col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DF Thread Chart for each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57600" y="1371600"/>
            <a:ext cx="3732120" cy="2266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480" y="4876920"/>
            <a:ext cx="3429000" cy="280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495680" y="4495680"/>
            <a:ext cx="2743200" cy="2111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886200" y="6324480"/>
            <a:ext cx="2819520" cy="220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779-C8BF-4A29-911C-FFBA67112F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6:29:45Z</dcterms:created>
  <dc:creator>Angie Dobbs</dc:creator>
  <dc:description/>
  <dc:language>en-US</dc:language>
  <cp:lastModifiedBy>Angie Dobbs</cp:lastModifiedBy>
  <dcterms:modified xsi:type="dcterms:W3CDTF">2012-02-14T18:29:22Z</dcterms:modified>
  <cp:revision>166</cp:revision>
  <dc:subject/>
  <dc:title>Slide 1</dc:title>
</cp:coreProperties>
</file>